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52D-367E-40FE-8755-AF4A9480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FEB-338F-4E55-9817-E9B8B85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94A-1F72-4F28-9B63-324487FE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118-EA23-4075-9966-A0B2FF5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57-8733-4A32-B48A-4E2DFCA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08F-31E4-4E24-81E0-3C73CCC1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775-C76C-4EBD-A486-CBEE8FC9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847-C774-4AF2-B267-3475703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268-8D33-4883-85D5-6D344D5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42E-5E4B-421B-92C2-A5DC431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91D-D7E6-4DB0-A45D-E0B1197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42D-0CF5-44F2-9811-480C2C7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1DFC-022B-4580-BBE2-BF3B29FD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1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23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5120" y="10666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49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51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56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62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64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69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75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She’s Rita. I like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340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749760" y="3683160"/>
            <a:ext cx="2358720" cy="1141920"/>
            <a:chOff x="3749760" y="3683160"/>
            <a:chExt cx="2358720" cy="1141920"/>
          </a:xfrm>
        </p:grpSpPr>
        <p:grpSp>
          <p:nvGrpSpPr>
            <p:cNvPr id="84" name=""/>
            <p:cNvGrpSpPr/>
            <p:nvPr/>
          </p:nvGrpSpPr>
          <p:grpSpPr>
            <a:xfrm>
              <a:off x="3749760" y="3795840"/>
              <a:ext cx="1127880" cy="1029240"/>
              <a:chOff x="3749760" y="3795840"/>
              <a:chExt cx="1127880" cy="10292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749760" y="3795840"/>
                <a:ext cx="1127880" cy="1029240"/>
                <a:chOff x="3749760" y="3795840"/>
                <a:chExt cx="1127880" cy="1029240"/>
              </a:xfrm>
            </p:grpSpPr>
            <p:sp>
              <p:nvSpPr>
                <p:cNvPr id="86" name=""/>
                <p:cNvSpPr/>
                <p:nvPr/>
              </p:nvSpPr>
              <p:spPr>
                <a:xfrm rot="17186400">
                  <a:off x="3831840" y="39114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7186400">
                  <a:off x="4251600" y="3926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 rot="17186400">
                <a:off x="3821400" y="39571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825800" y="3683160"/>
              <a:ext cx="1241280" cy="1131840"/>
              <a:chOff x="4825800" y="3683160"/>
              <a:chExt cx="1241280" cy="11318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4825800" y="3683160"/>
                <a:ext cx="1241280" cy="1131840"/>
                <a:chOff x="4825800" y="3683160"/>
                <a:chExt cx="1241280" cy="1131840"/>
              </a:xfrm>
            </p:grpSpPr>
            <p:sp>
              <p:nvSpPr>
                <p:cNvPr id="91" name=""/>
                <p:cNvSpPr/>
                <p:nvPr/>
              </p:nvSpPr>
              <p:spPr>
                <a:xfrm rot="7297200">
                  <a:off x="5088600" y="38498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7297200">
                  <a:off x="4930560" y="3997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 rot="7297200">
                <a:off x="5569920" y="4363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rot="17186400">
              <a:off x="5766480" y="40953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760" y="2971800"/>
            <a:ext cx="339084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228600" y="25146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2419200" y="25909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83628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7924680" y="4572000"/>
            <a:ext cx="117180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123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125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130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49560" y="4749840"/>
            <a:ext cx="2358720" cy="1141920"/>
            <a:chOff x="2149560" y="4749840"/>
            <a:chExt cx="2358720" cy="1141920"/>
          </a:xfrm>
        </p:grpSpPr>
        <p:grpSp>
          <p:nvGrpSpPr>
            <p:cNvPr id="136" name=""/>
            <p:cNvGrpSpPr/>
            <p:nvPr/>
          </p:nvGrpSpPr>
          <p:grpSpPr>
            <a:xfrm>
              <a:off x="2149560" y="4862520"/>
              <a:ext cx="1127880" cy="1029240"/>
              <a:chOff x="2149560" y="4862520"/>
              <a:chExt cx="1127880" cy="10292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2149560" y="4862520"/>
                <a:ext cx="1127880" cy="1029240"/>
                <a:chOff x="2149560" y="4862520"/>
                <a:chExt cx="1127880" cy="1029240"/>
              </a:xfrm>
            </p:grpSpPr>
            <p:sp>
              <p:nvSpPr>
                <p:cNvPr id="138" name=""/>
                <p:cNvSpPr/>
                <p:nvPr/>
              </p:nvSpPr>
              <p:spPr>
                <a:xfrm rot="17186400">
                  <a:off x="22316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7186400">
                  <a:off x="26514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17186400">
                <a:off x="22212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225600" y="4749840"/>
              <a:ext cx="1241280" cy="1131840"/>
              <a:chOff x="3225600" y="4749840"/>
              <a:chExt cx="1241280" cy="1131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225600" y="4749840"/>
                <a:ext cx="1241280" cy="1131840"/>
                <a:chOff x="3225600" y="4749840"/>
                <a:chExt cx="1241280" cy="1131840"/>
              </a:xfrm>
            </p:grpSpPr>
            <p:sp>
              <p:nvSpPr>
                <p:cNvPr id="143" name=""/>
                <p:cNvSpPr/>
                <p:nvPr/>
              </p:nvSpPr>
              <p:spPr>
                <a:xfrm rot="7297200">
                  <a:off x="34884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7297200">
                  <a:off x="33303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rot="7297200">
                <a:off x="39697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7186400">
              <a:off x="41662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149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67080" y="3962520"/>
            <a:ext cx="877680" cy="993240"/>
            <a:chOff x="4267080" y="3962520"/>
            <a:chExt cx="877680" cy="993240"/>
          </a:xfrm>
        </p:grpSpPr>
        <p:grpSp>
          <p:nvGrpSpPr>
            <p:cNvPr id="152" name=""/>
            <p:cNvGrpSpPr/>
            <p:nvPr/>
          </p:nvGrpSpPr>
          <p:grpSpPr>
            <a:xfrm>
              <a:off x="4267080" y="4038480"/>
              <a:ext cx="877680" cy="917280"/>
              <a:chOff x="4267080" y="4038480"/>
              <a:chExt cx="877680" cy="917280"/>
            </a:xfrm>
          </p:grpSpPr>
          <p:sp>
            <p:nvSpPr>
              <p:cNvPr id="153" name=""/>
              <p:cNvSpPr/>
              <p:nvPr/>
            </p:nvSpPr>
            <p:spPr>
              <a:xfrm>
                <a:off x="4267080" y="403848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86400" y="439740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647960" y="396252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He’s Rick. I like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547400">
            <a:off x="317304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3352680" cy="276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25909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>
            <a:off x="190512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457200" y="25146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7972560" y="45720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8305920" y="99072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95480" y="5029200"/>
            <a:ext cx="877680" cy="993240"/>
            <a:chOff x="2895480" y="5029200"/>
            <a:chExt cx="877680" cy="993240"/>
          </a:xfrm>
        </p:grpSpPr>
        <p:grpSp>
          <p:nvGrpSpPr>
            <p:cNvPr id="184" name=""/>
            <p:cNvGrpSpPr/>
            <p:nvPr/>
          </p:nvGrpSpPr>
          <p:grpSpPr>
            <a:xfrm>
              <a:off x="2895480" y="5105160"/>
              <a:ext cx="877680" cy="917280"/>
              <a:chOff x="2895480" y="5105160"/>
              <a:chExt cx="877680" cy="917280"/>
            </a:xfrm>
          </p:grpSpPr>
          <p:sp>
            <p:nvSpPr>
              <p:cNvPr id="185" name=""/>
              <p:cNvSpPr/>
              <p:nvPr/>
            </p:nvSpPr>
            <p:spPr>
              <a:xfrm>
                <a:off x="2895480" y="510516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4800" y="546408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276360" y="502920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44388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191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193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198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972560" y="441972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228600" y="9360"/>
            <a:ext cx="8915400" cy="120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4800" y="4673880"/>
            <a:ext cx="2358720" cy="1141920"/>
            <a:chOff x="244800" y="4673880"/>
            <a:chExt cx="2358720" cy="1141920"/>
          </a:xfrm>
        </p:grpSpPr>
        <p:grpSp>
          <p:nvGrpSpPr>
            <p:cNvPr id="211" name=""/>
            <p:cNvGrpSpPr/>
            <p:nvPr/>
          </p:nvGrpSpPr>
          <p:grpSpPr>
            <a:xfrm>
              <a:off x="244800" y="4786560"/>
              <a:ext cx="1127880" cy="1029240"/>
              <a:chOff x="244800" y="4786560"/>
              <a:chExt cx="1127880" cy="10292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244800" y="4786560"/>
                <a:ext cx="1127880" cy="1029240"/>
                <a:chOff x="244800" y="4786560"/>
                <a:chExt cx="1127880" cy="1029240"/>
              </a:xfrm>
            </p:grpSpPr>
            <p:sp>
              <p:nvSpPr>
                <p:cNvPr id="213" name=""/>
                <p:cNvSpPr/>
                <p:nvPr/>
              </p:nvSpPr>
              <p:spPr>
                <a:xfrm rot="17186400">
                  <a:off x="326880" y="49021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7186400">
                  <a:off x="746640" y="4917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 rot="17186400">
                <a:off x="316440" y="49478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320840" y="4673880"/>
              <a:ext cx="1241280" cy="1131840"/>
              <a:chOff x="1320840" y="4673880"/>
              <a:chExt cx="1241280" cy="1131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320840" y="4673880"/>
                <a:ext cx="1241280" cy="1131840"/>
                <a:chOff x="1320840" y="4673880"/>
                <a:chExt cx="1241280" cy="1131840"/>
              </a:xfrm>
            </p:grpSpPr>
            <p:sp>
              <p:nvSpPr>
                <p:cNvPr id="218" name=""/>
                <p:cNvSpPr/>
                <p:nvPr/>
              </p:nvSpPr>
              <p:spPr>
                <a:xfrm rot="7297200">
                  <a:off x="1583640" y="48405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7297200">
                  <a:off x="1425600" y="49881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 rot="7297200">
                <a:off x="2064960" y="535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17186400">
              <a:off x="2261520" y="5086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05120" y="3505320"/>
            <a:ext cx="877680" cy="917280"/>
            <a:chOff x="1905120" y="3505320"/>
            <a:chExt cx="877680" cy="917280"/>
          </a:xfrm>
        </p:grpSpPr>
        <p:sp>
          <p:nvSpPr>
            <p:cNvPr id="224" name=""/>
            <p:cNvSpPr/>
            <p:nvPr/>
          </p:nvSpPr>
          <p:spPr>
            <a:xfrm>
              <a:off x="1905120" y="3505320"/>
              <a:ext cx="83772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4440" y="3864240"/>
              <a:ext cx="55836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5791320"/>
            <a:ext cx="90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They’re nice. I like …….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56228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1094800">
            <a:off x="277920" y="434340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0" y="3289320"/>
            <a:ext cx="547560" cy="977760"/>
            <a:chOff x="2286000" y="3289320"/>
            <a:chExt cx="547560" cy="977760"/>
          </a:xfrm>
        </p:grpSpPr>
        <p:sp>
          <p:nvSpPr>
            <p:cNvPr id="234" name=""/>
            <p:cNvSpPr/>
            <p:nvPr/>
          </p:nvSpPr>
          <p:spPr>
            <a:xfrm>
              <a:off x="2587680" y="3854520"/>
              <a:ext cx="1173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87600" y="4152960"/>
              <a:ext cx="1191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3975120"/>
              <a:ext cx="15876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21080" y="3924360"/>
              <a:ext cx="11880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7600" y="3581280"/>
              <a:ext cx="11916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28800" y="3460680"/>
              <a:ext cx="104760" cy="1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57520" y="3289320"/>
              <a:ext cx="15696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228600" y="3200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2362320" y="26668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4952880" y="28954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6"/>
          <a:stretch/>
        </p:blipFill>
        <p:spPr>
          <a:xfrm>
            <a:off x="8153280" y="914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7"/>
          <a:stretch/>
        </p:blipFill>
        <p:spPr>
          <a:xfrm>
            <a:off x="1828800" y="10666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8915400" cy="1047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845400" y="3802680"/>
            <a:ext cx="1845360" cy="2120040"/>
            <a:chOff x="6845400" y="3802680"/>
            <a:chExt cx="1845360" cy="2120040"/>
          </a:xfrm>
        </p:grpSpPr>
        <p:grpSp>
          <p:nvGrpSpPr>
            <p:cNvPr id="263" name=""/>
            <p:cNvGrpSpPr/>
            <p:nvPr/>
          </p:nvGrpSpPr>
          <p:grpSpPr>
            <a:xfrm>
              <a:off x="6845400" y="4679640"/>
              <a:ext cx="1132560" cy="1243080"/>
              <a:chOff x="6845400" y="4679640"/>
              <a:chExt cx="1132560" cy="124308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845400" y="4679640"/>
                <a:ext cx="1132560" cy="1243080"/>
                <a:chOff x="6845400" y="4679640"/>
                <a:chExt cx="1132560" cy="1243080"/>
              </a:xfrm>
            </p:grpSpPr>
            <p:sp>
              <p:nvSpPr>
                <p:cNvPr id="265" name=""/>
                <p:cNvSpPr/>
                <p:nvPr/>
              </p:nvSpPr>
              <p:spPr>
                <a:xfrm rot="14123400">
                  <a:off x="69926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4123400">
                  <a:off x="72270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 rot="14123400">
                <a:off x="69285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632000" y="3807720"/>
              <a:ext cx="1058760" cy="1132920"/>
              <a:chOff x="7632000" y="3807720"/>
              <a:chExt cx="1058760" cy="11329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632000" y="3807720"/>
                <a:ext cx="1037880" cy="1132920"/>
                <a:chOff x="7632000" y="3807720"/>
                <a:chExt cx="1037880" cy="1132920"/>
              </a:xfrm>
            </p:grpSpPr>
            <p:sp>
              <p:nvSpPr>
                <p:cNvPr id="270" name=""/>
                <p:cNvSpPr/>
                <p:nvPr/>
              </p:nvSpPr>
              <p:spPr>
                <a:xfrm rot="4234800">
                  <a:off x="77353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4234800">
                  <a:off x="77086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rot="4234800">
                <a:off x="83437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14123400">
              <a:off x="82591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44800" y="4673880"/>
            <a:ext cx="2358720" cy="1141920"/>
            <a:chOff x="244800" y="4673880"/>
            <a:chExt cx="2358720" cy="1141920"/>
          </a:xfrm>
        </p:grpSpPr>
        <p:grpSp>
          <p:nvGrpSpPr>
            <p:cNvPr id="276" name=""/>
            <p:cNvGrpSpPr/>
            <p:nvPr/>
          </p:nvGrpSpPr>
          <p:grpSpPr>
            <a:xfrm>
              <a:off x="244800" y="4786560"/>
              <a:ext cx="1127880" cy="1029240"/>
              <a:chOff x="244800" y="4786560"/>
              <a:chExt cx="1127880" cy="102924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244800" y="4786560"/>
                <a:ext cx="1127880" cy="1029240"/>
                <a:chOff x="244800" y="4786560"/>
                <a:chExt cx="1127880" cy="1029240"/>
              </a:xfrm>
            </p:grpSpPr>
            <p:sp>
              <p:nvSpPr>
                <p:cNvPr id="278" name=""/>
                <p:cNvSpPr/>
                <p:nvPr/>
              </p:nvSpPr>
              <p:spPr>
                <a:xfrm rot="17186400">
                  <a:off x="326880" y="49021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7186400">
                  <a:off x="746640" y="4917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 rot="17186400">
                <a:off x="316440" y="49478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320840" y="4673880"/>
              <a:ext cx="1241280" cy="1131840"/>
              <a:chOff x="1320840" y="4673880"/>
              <a:chExt cx="1241280" cy="1131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320840" y="4673880"/>
                <a:ext cx="1241280" cy="1131840"/>
                <a:chOff x="1320840" y="4673880"/>
                <a:chExt cx="1241280" cy="1131840"/>
              </a:xfrm>
            </p:grpSpPr>
            <p:sp>
              <p:nvSpPr>
                <p:cNvPr id="283" name=""/>
                <p:cNvSpPr/>
                <p:nvPr/>
              </p:nvSpPr>
              <p:spPr>
                <a:xfrm rot="7297200">
                  <a:off x="1583640" y="48405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7297200">
                  <a:off x="1425600" y="49881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rot="7297200">
                <a:off x="2064960" y="535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rot="17186400">
              <a:off x="2261520" y="5086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920" y="3273480"/>
            <a:ext cx="877680" cy="993240"/>
            <a:chOff x="4876920" y="3273480"/>
            <a:chExt cx="877680" cy="993240"/>
          </a:xfrm>
        </p:grpSpPr>
        <p:grpSp>
          <p:nvGrpSpPr>
            <p:cNvPr id="289" name=""/>
            <p:cNvGrpSpPr/>
            <p:nvPr/>
          </p:nvGrpSpPr>
          <p:grpSpPr>
            <a:xfrm>
              <a:off x="4876920" y="3349440"/>
              <a:ext cx="877680" cy="917280"/>
              <a:chOff x="4876920" y="3349440"/>
              <a:chExt cx="877680" cy="917280"/>
            </a:xfrm>
          </p:grpSpPr>
          <p:sp>
            <p:nvSpPr>
              <p:cNvPr id="290" name=""/>
              <p:cNvSpPr/>
              <p:nvPr/>
            </p:nvSpPr>
            <p:spPr>
              <a:xfrm>
                <a:off x="4876920" y="33494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6240" y="37083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257800" y="32734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57913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’m Tina. Everybody likes .……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5486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350080" y="3608280"/>
            <a:ext cx="1660680" cy="2093760"/>
            <a:chOff x="2350080" y="3608280"/>
            <a:chExt cx="1660680" cy="2093760"/>
          </a:xfrm>
        </p:grpSpPr>
        <p:grpSp>
          <p:nvGrpSpPr>
            <p:cNvPr id="298" name=""/>
            <p:cNvGrpSpPr/>
            <p:nvPr/>
          </p:nvGrpSpPr>
          <p:grpSpPr>
            <a:xfrm>
              <a:off x="2350080" y="3608280"/>
              <a:ext cx="1095480" cy="1055520"/>
              <a:chOff x="2350080" y="3608280"/>
              <a:chExt cx="1095480" cy="105552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350080" y="3639600"/>
                <a:ext cx="1095480" cy="1024200"/>
                <a:chOff x="2350080" y="3639600"/>
                <a:chExt cx="1095480" cy="1024200"/>
              </a:xfrm>
            </p:grpSpPr>
            <p:sp>
              <p:nvSpPr>
                <p:cNvPr id="300" name=""/>
                <p:cNvSpPr/>
                <p:nvPr/>
              </p:nvSpPr>
              <p:spPr>
                <a:xfrm rot="20644200">
                  <a:off x="2443320" y="37393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0644200">
                  <a:off x="2821320" y="40395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rot="20644200">
                <a:off x="2730960" y="364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121200" y="4647240"/>
              <a:ext cx="889560" cy="997920"/>
              <a:chOff x="3121200" y="4647240"/>
              <a:chExt cx="889560" cy="997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3121200" y="4647240"/>
                <a:ext cx="889560" cy="924120"/>
                <a:chOff x="3121200" y="4647240"/>
                <a:chExt cx="889560" cy="924120"/>
              </a:xfrm>
            </p:grpSpPr>
            <p:sp>
              <p:nvSpPr>
                <p:cNvPr id="305" name=""/>
                <p:cNvSpPr/>
                <p:nvPr/>
              </p:nvSpPr>
              <p:spPr>
                <a:xfrm rot="10755600">
                  <a:off x="3167640" y="47682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0755600">
                  <a:off x="3124800" y="46508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 rot="10755600">
                <a:off x="3323880" y="53384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rot="20644200">
              <a:off x="3655440" y="536112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828800" y="51814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3886200"/>
            <a:ext cx="877680" cy="993240"/>
            <a:chOff x="914400" y="3886200"/>
            <a:chExt cx="877680" cy="993240"/>
          </a:xfrm>
        </p:grpSpPr>
        <p:grpSp>
          <p:nvGrpSpPr>
            <p:cNvPr id="315" name=""/>
            <p:cNvGrpSpPr/>
            <p:nvPr/>
          </p:nvGrpSpPr>
          <p:grpSpPr>
            <a:xfrm>
              <a:off x="914400" y="3962160"/>
              <a:ext cx="877680" cy="917280"/>
              <a:chOff x="914400" y="3962160"/>
              <a:chExt cx="877680" cy="917280"/>
            </a:xfrm>
          </p:grpSpPr>
          <p:sp>
            <p:nvSpPr>
              <p:cNvPr id="316" name=""/>
              <p:cNvSpPr/>
              <p:nvPr/>
            </p:nvSpPr>
            <p:spPr>
              <a:xfrm>
                <a:off x="914400" y="396216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3720" y="432108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295280" y="388620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038480" y="3962520"/>
            <a:ext cx="321948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2"/>
          <a:stretch/>
        </p:blipFill>
        <p:spPr>
          <a:xfrm>
            <a:off x="7848720" y="43434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815328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4"/>
          <a:stretch/>
        </p:blipFill>
        <p:spPr>
          <a:xfrm>
            <a:off x="4114800" y="28954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5"/>
          <a:stretch/>
        </p:blipFill>
        <p:spPr>
          <a:xfrm>
            <a:off x="2438280" y="28195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6"/>
          <a:stretch/>
        </p:blipFill>
        <p:spPr>
          <a:xfrm>
            <a:off x="1981080" y="114300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7"/>
          <a:stretch/>
        </p:blipFill>
        <p:spPr>
          <a:xfrm>
            <a:off x="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8"/>
          <a:stretch/>
        </p:blipFill>
        <p:spPr>
          <a:xfrm>
            <a:off x="609480" y="3505320"/>
            <a:ext cx="131472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632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074000" y="3802680"/>
            <a:ext cx="1845360" cy="2120040"/>
            <a:chOff x="7074000" y="3802680"/>
            <a:chExt cx="1845360" cy="2120040"/>
          </a:xfrm>
        </p:grpSpPr>
        <p:grpSp>
          <p:nvGrpSpPr>
            <p:cNvPr id="344" name=""/>
            <p:cNvGrpSpPr/>
            <p:nvPr/>
          </p:nvGrpSpPr>
          <p:grpSpPr>
            <a:xfrm>
              <a:off x="7074000" y="4679640"/>
              <a:ext cx="1132560" cy="1243080"/>
              <a:chOff x="7074000" y="4679640"/>
              <a:chExt cx="1132560" cy="12430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7074000" y="4679640"/>
                <a:ext cx="1132560" cy="1243080"/>
                <a:chOff x="7074000" y="4679640"/>
                <a:chExt cx="1132560" cy="1243080"/>
              </a:xfrm>
            </p:grpSpPr>
            <p:sp>
              <p:nvSpPr>
                <p:cNvPr id="346" name=""/>
                <p:cNvSpPr/>
                <p:nvPr/>
              </p:nvSpPr>
              <p:spPr>
                <a:xfrm rot="14123400">
                  <a:off x="72212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4123400">
                  <a:off x="74556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 rot="14123400">
                <a:off x="71571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860600" y="3807720"/>
              <a:ext cx="1058760" cy="1132920"/>
              <a:chOff x="7860600" y="3807720"/>
              <a:chExt cx="1058760" cy="11329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7860600" y="3807720"/>
                <a:ext cx="1037880" cy="1132920"/>
                <a:chOff x="7860600" y="3807720"/>
                <a:chExt cx="1037880" cy="1132920"/>
              </a:xfrm>
            </p:grpSpPr>
            <p:sp>
              <p:nvSpPr>
                <p:cNvPr id="351" name=""/>
                <p:cNvSpPr/>
                <p:nvPr/>
              </p:nvSpPr>
              <p:spPr>
                <a:xfrm rot="4234800">
                  <a:off x="79639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4234800">
                  <a:off x="79372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4234800">
                <a:off x="85723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14123400">
              <a:off x="84877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357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359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364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371600" y="3809880"/>
            <a:ext cx="878040" cy="917280"/>
            <a:chOff x="1371600" y="3809880"/>
            <a:chExt cx="878040" cy="917280"/>
          </a:xfrm>
        </p:grpSpPr>
        <p:sp>
          <p:nvSpPr>
            <p:cNvPr id="370" name=""/>
            <p:cNvSpPr/>
            <p:nvPr/>
          </p:nvSpPr>
          <p:spPr>
            <a:xfrm>
              <a:off x="1371600" y="38098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0920" y="41688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267080" y="4187880"/>
            <a:ext cx="877680" cy="993240"/>
            <a:chOff x="4267080" y="4187880"/>
            <a:chExt cx="877680" cy="993240"/>
          </a:xfrm>
        </p:grpSpPr>
        <p:grpSp>
          <p:nvGrpSpPr>
            <p:cNvPr id="373" name=""/>
            <p:cNvGrpSpPr/>
            <p:nvPr/>
          </p:nvGrpSpPr>
          <p:grpSpPr>
            <a:xfrm>
              <a:off x="4267080" y="4263840"/>
              <a:ext cx="877680" cy="917280"/>
              <a:chOff x="4267080" y="4263840"/>
              <a:chExt cx="877680" cy="917280"/>
            </a:xfrm>
          </p:grpSpPr>
          <p:sp>
            <p:nvSpPr>
              <p:cNvPr id="374" name=""/>
              <p:cNvSpPr/>
              <p:nvPr/>
            </p:nvSpPr>
            <p:spPr>
              <a:xfrm>
                <a:off x="4267080" y="42638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86400" y="46227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647960" y="41878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5791320"/>
            <a:ext cx="90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It is seaweed. We like …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20120" y="562284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430400">
            <a:off x="6850800" y="4571640"/>
            <a:ext cx="114948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3124080" y="3581280"/>
            <a:ext cx="4438800" cy="20574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6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7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8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9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0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1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2"/>
          <a:stretch/>
        </p:blipFill>
        <p:spPr>
          <a:xfrm>
            <a:off x="7972560" y="426708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3"/>
          <a:stretch/>
        </p:blipFill>
        <p:spPr>
          <a:xfrm>
            <a:off x="3657600" y="259092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4"/>
          <a:stretch/>
        </p:blipFill>
        <p:spPr>
          <a:xfrm>
            <a:off x="2438280" y="29718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5"/>
          <a:stretch/>
        </p:blipFill>
        <p:spPr>
          <a:xfrm>
            <a:off x="20574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6"/>
          <a:stretch/>
        </p:blipFill>
        <p:spPr>
          <a:xfrm>
            <a:off x="304920" y="2209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7"/>
          <a:stretch/>
        </p:blipFill>
        <p:spPr>
          <a:xfrm>
            <a:off x="0" y="373392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10800000">
            <a:off x="963720" y="480060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3846600" y="3276720"/>
            <a:ext cx="877680" cy="993240"/>
            <a:chOff x="3846600" y="3276720"/>
            <a:chExt cx="877680" cy="993240"/>
          </a:xfrm>
        </p:grpSpPr>
        <p:grpSp>
          <p:nvGrpSpPr>
            <p:cNvPr id="404" name=""/>
            <p:cNvGrpSpPr/>
            <p:nvPr/>
          </p:nvGrpSpPr>
          <p:grpSpPr>
            <a:xfrm>
              <a:off x="3846600" y="3352680"/>
              <a:ext cx="877680" cy="917280"/>
              <a:chOff x="3846600" y="3352680"/>
              <a:chExt cx="877680" cy="917280"/>
            </a:xfrm>
          </p:grpSpPr>
          <p:sp>
            <p:nvSpPr>
              <p:cNvPr id="405" name=""/>
              <p:cNvSpPr/>
              <p:nvPr/>
            </p:nvSpPr>
            <p:spPr>
              <a:xfrm>
                <a:off x="3846600" y="335268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65920" y="371160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227480" y="327672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02000" y="4826160"/>
            <a:ext cx="2358720" cy="1141920"/>
            <a:chOff x="702000" y="4826160"/>
            <a:chExt cx="2358720" cy="1141920"/>
          </a:xfrm>
        </p:grpSpPr>
        <p:grpSp>
          <p:nvGrpSpPr>
            <p:cNvPr id="409" name=""/>
            <p:cNvGrpSpPr/>
            <p:nvPr/>
          </p:nvGrpSpPr>
          <p:grpSpPr>
            <a:xfrm>
              <a:off x="702000" y="4938840"/>
              <a:ext cx="1127880" cy="1029240"/>
              <a:chOff x="702000" y="4938840"/>
              <a:chExt cx="1127880" cy="10292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702000" y="4938840"/>
                <a:ext cx="1127880" cy="1029240"/>
                <a:chOff x="702000" y="4938840"/>
                <a:chExt cx="1127880" cy="1029240"/>
              </a:xfrm>
            </p:grpSpPr>
            <p:sp>
              <p:nvSpPr>
                <p:cNvPr id="411" name=""/>
                <p:cNvSpPr/>
                <p:nvPr/>
              </p:nvSpPr>
              <p:spPr>
                <a:xfrm rot="17186400">
                  <a:off x="784080" y="50544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7186400">
                  <a:off x="1203840" y="5069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 rot="17186400">
                <a:off x="773640" y="51001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778040" y="4826160"/>
              <a:ext cx="1241280" cy="1131840"/>
              <a:chOff x="1778040" y="4826160"/>
              <a:chExt cx="1241280" cy="11318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1778040" y="4826160"/>
                <a:ext cx="1241280" cy="1131840"/>
                <a:chOff x="1778040" y="4826160"/>
                <a:chExt cx="1241280" cy="1131840"/>
              </a:xfrm>
            </p:grpSpPr>
            <p:sp>
              <p:nvSpPr>
                <p:cNvPr id="416" name=""/>
                <p:cNvSpPr/>
                <p:nvPr/>
              </p:nvSpPr>
              <p:spPr>
                <a:xfrm rot="7297200">
                  <a:off x="2040840" y="49928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7297200">
                  <a:off x="1882800" y="5140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 rot="7297200">
                <a:off x="2522160" y="5506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rot="17186400">
              <a:off x="2718720" y="52383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6320" y="2971800"/>
            <a:ext cx="5076720" cy="29145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7543800" y="4267080"/>
            <a:ext cx="1409760" cy="2286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145840" y="3916800"/>
            <a:ext cx="2074680" cy="1874880"/>
            <a:chOff x="5145840" y="3916800"/>
            <a:chExt cx="2074680" cy="1874880"/>
          </a:xfrm>
        </p:grpSpPr>
        <p:grpSp>
          <p:nvGrpSpPr>
            <p:cNvPr id="429" name=""/>
            <p:cNvGrpSpPr/>
            <p:nvPr/>
          </p:nvGrpSpPr>
          <p:grpSpPr>
            <a:xfrm>
              <a:off x="5145840" y="3916800"/>
              <a:ext cx="1232640" cy="1122480"/>
              <a:chOff x="5145840" y="3916800"/>
              <a:chExt cx="1232640" cy="11224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5145840" y="3916800"/>
                <a:ext cx="1232640" cy="1122480"/>
                <a:chOff x="5145840" y="3916800"/>
                <a:chExt cx="1232640" cy="1122480"/>
              </a:xfrm>
            </p:grpSpPr>
            <p:sp>
              <p:nvSpPr>
                <p:cNvPr id="431" name=""/>
                <p:cNvSpPr/>
                <p:nvPr/>
              </p:nvSpPr>
              <p:spPr>
                <a:xfrm rot="19656600">
                  <a:off x="5294160" y="40791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9656600">
                  <a:off x="5713560" y="4304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 rot="19656600">
                <a:off x="5484240" y="3992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108120" y="4734720"/>
              <a:ext cx="1109520" cy="1056960"/>
              <a:chOff x="6108120" y="4734720"/>
              <a:chExt cx="1109520" cy="10569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6108120" y="4734720"/>
                <a:ext cx="1109520" cy="1029960"/>
                <a:chOff x="6108120" y="4734720"/>
                <a:chExt cx="1109520" cy="1029960"/>
              </a:xfrm>
            </p:grpSpPr>
            <p:sp>
              <p:nvSpPr>
                <p:cNvPr id="436" name=""/>
                <p:cNvSpPr/>
                <p:nvPr/>
              </p:nvSpPr>
              <p:spPr>
                <a:xfrm rot="9768000">
                  <a:off x="6280560" y="48607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9768000">
                  <a:off x="6177960" y="48049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 rot="9768000">
                <a:off x="6532920" y="544896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 rot="19656600">
              <a:off x="6857280" y="53769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Hush! Don’t tell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7220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28800" y="108576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6362640" y="3600360"/>
            <a:ext cx="1790640" cy="13525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rot="10430400">
            <a:off x="5930640" y="3504960"/>
            <a:ext cx="184140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3962520"/>
            <a:ext cx="2084400" cy="73476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4"/>
          <a:stretch/>
        </p:blipFill>
        <p:spPr>
          <a:xfrm>
            <a:off x="380880" y="23623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5"/>
          <a:stretch/>
        </p:blipFill>
        <p:spPr>
          <a:xfrm>
            <a:off x="4952880" y="29718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6"/>
          <a:stretch/>
        </p:blipFill>
        <p:spPr>
          <a:xfrm>
            <a:off x="8153280" y="83808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3445200" y="3378240"/>
            <a:ext cx="2358720" cy="1141920"/>
            <a:chOff x="3445200" y="3378240"/>
            <a:chExt cx="2358720" cy="1141920"/>
          </a:xfrm>
        </p:grpSpPr>
        <p:grpSp>
          <p:nvGrpSpPr>
            <p:cNvPr id="468" name=""/>
            <p:cNvGrpSpPr/>
            <p:nvPr/>
          </p:nvGrpSpPr>
          <p:grpSpPr>
            <a:xfrm>
              <a:off x="3445200" y="3490920"/>
              <a:ext cx="1127880" cy="1029240"/>
              <a:chOff x="3445200" y="3490920"/>
              <a:chExt cx="1127880" cy="102924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445200" y="3490920"/>
                <a:ext cx="1127880" cy="1029240"/>
                <a:chOff x="3445200" y="3490920"/>
                <a:chExt cx="1127880" cy="1029240"/>
              </a:xfrm>
            </p:grpSpPr>
            <p:sp>
              <p:nvSpPr>
                <p:cNvPr id="470" name=""/>
                <p:cNvSpPr/>
                <p:nvPr/>
              </p:nvSpPr>
              <p:spPr>
                <a:xfrm rot="17186400">
                  <a:off x="3527280" y="36064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186400">
                  <a:off x="3947040" y="3621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17186400">
                <a:off x="3516840" y="3652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521240" y="3378240"/>
              <a:ext cx="1241280" cy="1131840"/>
              <a:chOff x="4521240" y="3378240"/>
              <a:chExt cx="1241280" cy="113184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4521240" y="3378240"/>
                <a:ext cx="1241280" cy="1131840"/>
                <a:chOff x="4521240" y="3378240"/>
                <a:chExt cx="1241280" cy="1131840"/>
              </a:xfrm>
            </p:grpSpPr>
            <p:sp>
              <p:nvSpPr>
                <p:cNvPr id="475" name=""/>
                <p:cNvSpPr/>
                <p:nvPr/>
              </p:nvSpPr>
              <p:spPr>
                <a:xfrm rot="7297200">
                  <a:off x="4784040" y="35449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7297200">
                  <a:off x="4626000" y="3692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 rot="7297200">
                <a:off x="5265360" y="4058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rot="17186400">
              <a:off x="5461920" y="3790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616800" y="3650040"/>
            <a:ext cx="1845360" cy="2120040"/>
            <a:chOff x="6616800" y="3650040"/>
            <a:chExt cx="1845360" cy="2120040"/>
          </a:xfrm>
        </p:grpSpPr>
        <p:grpSp>
          <p:nvGrpSpPr>
            <p:cNvPr id="480" name=""/>
            <p:cNvGrpSpPr/>
            <p:nvPr/>
          </p:nvGrpSpPr>
          <p:grpSpPr>
            <a:xfrm>
              <a:off x="6616800" y="4527000"/>
              <a:ext cx="1132560" cy="1243080"/>
              <a:chOff x="6616800" y="4527000"/>
              <a:chExt cx="1132560" cy="124308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6616800" y="4527000"/>
                <a:ext cx="1132560" cy="1243080"/>
                <a:chOff x="6616800" y="4527000"/>
                <a:chExt cx="1132560" cy="1243080"/>
              </a:xfrm>
            </p:grpSpPr>
            <p:sp>
              <p:nvSpPr>
                <p:cNvPr id="482" name=""/>
                <p:cNvSpPr/>
                <p:nvPr/>
              </p:nvSpPr>
              <p:spPr>
                <a:xfrm rot="14123400">
                  <a:off x="6764040" y="4799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4123400">
                  <a:off x="6998400" y="4635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 rot="14123400">
                <a:off x="6699960" y="51354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403400" y="3655080"/>
              <a:ext cx="1058760" cy="1132920"/>
              <a:chOff x="7403400" y="3655080"/>
              <a:chExt cx="1058760" cy="113292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7403400" y="3655080"/>
                <a:ext cx="1037880" cy="1132920"/>
                <a:chOff x="7403400" y="3655080"/>
                <a:chExt cx="1037880" cy="1132920"/>
              </a:xfrm>
            </p:grpSpPr>
            <p:sp>
              <p:nvSpPr>
                <p:cNvPr id="487" name=""/>
                <p:cNvSpPr/>
                <p:nvPr/>
              </p:nvSpPr>
              <p:spPr>
                <a:xfrm rot="4234800">
                  <a:off x="7506720" y="37836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4234800">
                  <a:off x="7480080" y="4152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4234800">
                <a:off x="8115120" y="4031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 rot="14123400">
              <a:off x="8030520" y="3709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5228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7772400" y="41148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495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497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502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57200" y="3048120"/>
            <a:ext cx="6648480" cy="2743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514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20" y="579132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We’re twins. They love ……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5562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8947200">
            <a:off x="2895120" y="3733560"/>
            <a:ext cx="2084400" cy="73476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3681600">
            <a:off x="2933640" y="379872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3"/>
          <a:stretch/>
        </p:blipFill>
        <p:spPr>
          <a:xfrm>
            <a:off x="815328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4"/>
          <a:stretch/>
        </p:blipFill>
        <p:spPr>
          <a:xfrm>
            <a:off x="480060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5"/>
          <a:stretch/>
        </p:blipFill>
        <p:spPr>
          <a:xfrm>
            <a:off x="2362320" y="25909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6"/>
          <a:stretch/>
        </p:blipFill>
        <p:spPr>
          <a:xfrm>
            <a:off x="213372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7"/>
          <a:stretch/>
        </p:blipFill>
        <p:spPr>
          <a:xfrm>
            <a:off x="380880" y="281952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3533400" y="3136680"/>
            <a:ext cx="1585800" cy="2137320"/>
            <a:chOff x="3533400" y="3136680"/>
            <a:chExt cx="1585800" cy="2137320"/>
          </a:xfrm>
        </p:grpSpPr>
        <p:grpSp>
          <p:nvGrpSpPr>
            <p:cNvPr id="540" name=""/>
            <p:cNvGrpSpPr/>
            <p:nvPr/>
          </p:nvGrpSpPr>
          <p:grpSpPr>
            <a:xfrm>
              <a:off x="3533400" y="3136680"/>
              <a:ext cx="1049400" cy="1047600"/>
              <a:chOff x="3533400" y="3136680"/>
              <a:chExt cx="1049400" cy="10476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3533400" y="3179160"/>
                <a:ext cx="1049400" cy="1005120"/>
                <a:chOff x="3533400" y="3179160"/>
                <a:chExt cx="1049400" cy="1005120"/>
              </a:xfrm>
            </p:grpSpPr>
            <p:sp>
              <p:nvSpPr>
                <p:cNvPr id="542" name=""/>
                <p:cNvSpPr/>
                <p:nvPr/>
              </p:nvSpPr>
              <p:spPr>
                <a:xfrm rot="20878800">
                  <a:off x="3607200" y="32576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20878800">
                  <a:off x="3972240" y="3573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rot="20878800">
                <a:off x="3918240" y="316476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218480" y="4189680"/>
              <a:ext cx="900720" cy="1018800"/>
              <a:chOff x="4218480" y="4189680"/>
              <a:chExt cx="900720" cy="10188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218480" y="4189680"/>
                <a:ext cx="900720" cy="964440"/>
                <a:chOff x="4218480" y="4189680"/>
                <a:chExt cx="900720" cy="964440"/>
              </a:xfrm>
            </p:grpSpPr>
            <p:sp>
              <p:nvSpPr>
                <p:cNvPr id="547" name=""/>
                <p:cNvSpPr/>
                <p:nvPr/>
              </p:nvSpPr>
              <p:spPr>
                <a:xfrm rot="10990200">
                  <a:off x="4259880" y="43336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0990200">
                  <a:off x="4233600" y="4204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 rot="10990200">
                <a:off x="4394520" y="48956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20878800">
              <a:off x="4723200" y="49406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6320" y="579132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7696080" y="4495680"/>
            <a:ext cx="1171800" cy="2057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40480" y="3650040"/>
            <a:ext cx="1845360" cy="2120040"/>
            <a:chOff x="6540480" y="3650040"/>
            <a:chExt cx="1845360" cy="2120040"/>
          </a:xfrm>
        </p:grpSpPr>
        <p:grpSp>
          <p:nvGrpSpPr>
            <p:cNvPr id="559" name=""/>
            <p:cNvGrpSpPr/>
            <p:nvPr/>
          </p:nvGrpSpPr>
          <p:grpSpPr>
            <a:xfrm>
              <a:off x="6540480" y="4527000"/>
              <a:ext cx="1132560" cy="1243080"/>
              <a:chOff x="6540480" y="4527000"/>
              <a:chExt cx="1132560" cy="12430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540480" y="4527000"/>
                <a:ext cx="1132560" cy="1243080"/>
                <a:chOff x="6540480" y="4527000"/>
                <a:chExt cx="1132560" cy="1243080"/>
              </a:xfrm>
            </p:grpSpPr>
            <p:sp>
              <p:nvSpPr>
                <p:cNvPr id="561" name=""/>
                <p:cNvSpPr/>
                <p:nvPr/>
              </p:nvSpPr>
              <p:spPr>
                <a:xfrm rot="14123400">
                  <a:off x="6687720" y="4799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14123400">
                  <a:off x="6922080" y="4635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rot="14123400">
                <a:off x="6623640" y="51354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327080" y="3655080"/>
              <a:ext cx="1058760" cy="1132920"/>
              <a:chOff x="7327080" y="3655080"/>
              <a:chExt cx="1058760" cy="1132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7327080" y="3655080"/>
                <a:ext cx="1037880" cy="1132920"/>
                <a:chOff x="7327080" y="3655080"/>
                <a:chExt cx="1037880" cy="1132920"/>
              </a:xfrm>
            </p:grpSpPr>
            <p:sp>
              <p:nvSpPr>
                <p:cNvPr id="566" name=""/>
                <p:cNvSpPr/>
                <p:nvPr/>
              </p:nvSpPr>
              <p:spPr>
                <a:xfrm rot="4234800">
                  <a:off x="7430400" y="37836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4234800">
                  <a:off x="7403760" y="4152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 rot="4234800">
                <a:off x="8038800" y="4031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 rot="14123400">
              <a:off x="7954200" y="3709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572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574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579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585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791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You’re my friend. I like ……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5562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547400">
            <a:off x="297144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430400">
            <a:off x="3733560" y="2590560"/>
            <a:ext cx="184140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5"/>
          <a:stretch/>
        </p:blipFill>
        <p:spPr>
          <a:xfrm>
            <a:off x="76320" y="3505320"/>
            <a:ext cx="3105000" cy="2209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6"/>
          <a:stretch/>
        </p:blipFill>
        <p:spPr>
          <a:xfrm>
            <a:off x="4648320" y="2790720"/>
            <a:ext cx="3324240" cy="28479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4"/>
          <a:stretch/>
        </p:blipFill>
        <p:spPr>
          <a:xfrm>
            <a:off x="822960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5"/>
          <a:stretch/>
        </p:blipFill>
        <p:spPr>
          <a:xfrm>
            <a:off x="25909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6"/>
          <a:stretch/>
        </p:blipFill>
        <p:spPr>
          <a:xfrm>
            <a:off x="20574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7"/>
          <a:stretch/>
        </p:blipFill>
        <p:spPr>
          <a:xfrm>
            <a:off x="304920" y="266688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1371600" y="3809880"/>
            <a:ext cx="878040" cy="917280"/>
            <a:chOff x="1371600" y="3809880"/>
            <a:chExt cx="878040" cy="917280"/>
          </a:xfrm>
        </p:grpSpPr>
        <p:sp>
          <p:nvSpPr>
            <p:cNvPr id="612" name=""/>
            <p:cNvSpPr/>
            <p:nvPr/>
          </p:nvSpPr>
          <p:spPr>
            <a:xfrm>
              <a:off x="1371600" y="38098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90920" y="41688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3238560" cy="1828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7074000" y="3802680"/>
            <a:ext cx="1845360" cy="2120040"/>
            <a:chOff x="7074000" y="3802680"/>
            <a:chExt cx="1845360" cy="2120040"/>
          </a:xfrm>
        </p:grpSpPr>
        <p:grpSp>
          <p:nvGrpSpPr>
            <p:cNvPr id="622" name=""/>
            <p:cNvGrpSpPr/>
            <p:nvPr/>
          </p:nvGrpSpPr>
          <p:grpSpPr>
            <a:xfrm>
              <a:off x="7074000" y="4679640"/>
              <a:ext cx="1132560" cy="1243080"/>
              <a:chOff x="7074000" y="4679640"/>
              <a:chExt cx="1132560" cy="124308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7074000" y="4679640"/>
                <a:ext cx="1132560" cy="1243080"/>
                <a:chOff x="7074000" y="4679640"/>
                <a:chExt cx="1132560" cy="1243080"/>
              </a:xfrm>
            </p:grpSpPr>
            <p:sp>
              <p:nvSpPr>
                <p:cNvPr id="624" name=""/>
                <p:cNvSpPr/>
                <p:nvPr/>
              </p:nvSpPr>
              <p:spPr>
                <a:xfrm rot="14123400">
                  <a:off x="72212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14123400">
                  <a:off x="74556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 rot="14123400">
                <a:off x="71571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860600" y="3807720"/>
              <a:ext cx="1058760" cy="1132920"/>
              <a:chOff x="7860600" y="3807720"/>
              <a:chExt cx="1058760" cy="113292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7860600" y="3807720"/>
                <a:ext cx="1037880" cy="1132920"/>
                <a:chOff x="7860600" y="3807720"/>
                <a:chExt cx="1037880" cy="1132920"/>
              </a:xfrm>
            </p:grpSpPr>
            <p:sp>
              <p:nvSpPr>
                <p:cNvPr id="629" name=""/>
                <p:cNvSpPr/>
                <p:nvPr/>
              </p:nvSpPr>
              <p:spPr>
                <a:xfrm rot="4234800">
                  <a:off x="79639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4234800">
                  <a:off x="79372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rot="4234800">
                <a:off x="85723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rot="14123400">
              <a:off x="84877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267080" y="4187880"/>
            <a:ext cx="877680" cy="993240"/>
            <a:chOff x="4267080" y="4187880"/>
            <a:chExt cx="877680" cy="993240"/>
          </a:xfrm>
        </p:grpSpPr>
        <p:grpSp>
          <p:nvGrpSpPr>
            <p:cNvPr id="636" name=""/>
            <p:cNvGrpSpPr/>
            <p:nvPr/>
          </p:nvGrpSpPr>
          <p:grpSpPr>
            <a:xfrm>
              <a:off x="4267080" y="4263840"/>
              <a:ext cx="877680" cy="917280"/>
              <a:chOff x="4267080" y="4263840"/>
              <a:chExt cx="877680" cy="917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267080" y="42638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586400" y="46227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647960" y="41878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57913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It’s a starfish. We like ...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48480" y="562284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292560" y="3338640"/>
            <a:ext cx="2358720" cy="1141920"/>
            <a:chOff x="3292560" y="3338640"/>
            <a:chExt cx="2358720" cy="1141920"/>
          </a:xfrm>
        </p:grpSpPr>
        <p:grpSp>
          <p:nvGrpSpPr>
            <p:cNvPr id="646" name=""/>
            <p:cNvGrpSpPr/>
            <p:nvPr/>
          </p:nvGrpSpPr>
          <p:grpSpPr>
            <a:xfrm>
              <a:off x="3292560" y="3451320"/>
              <a:ext cx="1127880" cy="1029240"/>
              <a:chOff x="3292560" y="3451320"/>
              <a:chExt cx="1127880" cy="1029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292560" y="3451320"/>
                <a:ext cx="1127880" cy="1029240"/>
                <a:chOff x="3292560" y="3451320"/>
                <a:chExt cx="1127880" cy="1029240"/>
              </a:xfrm>
            </p:grpSpPr>
            <p:sp>
              <p:nvSpPr>
                <p:cNvPr id="648" name=""/>
                <p:cNvSpPr/>
                <p:nvPr/>
              </p:nvSpPr>
              <p:spPr>
                <a:xfrm rot="17186400">
                  <a:off x="3374640" y="3566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7186400">
                  <a:off x="3794400" y="35820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rot="17186400">
                <a:off x="3364200" y="36126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368600" y="3338640"/>
              <a:ext cx="1241280" cy="1131840"/>
              <a:chOff x="4368600" y="3338640"/>
              <a:chExt cx="1241280" cy="11318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4368600" y="3338640"/>
                <a:ext cx="1241280" cy="1131840"/>
                <a:chOff x="4368600" y="3338640"/>
                <a:chExt cx="1241280" cy="1131840"/>
              </a:xfrm>
            </p:grpSpPr>
            <p:sp>
              <p:nvSpPr>
                <p:cNvPr id="653" name=""/>
                <p:cNvSpPr/>
                <p:nvPr/>
              </p:nvSpPr>
              <p:spPr>
                <a:xfrm rot="7297200">
                  <a:off x="4631400" y="35053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7297200">
                  <a:off x="4473360" y="36529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rot="7297200">
                <a:off x="5112720" y="40186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rot="17186400">
              <a:off x="5309280" y="37508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4724280" y="37339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13"/>
          <a:stretch/>
        </p:blipFill>
        <p:spPr>
          <a:xfrm>
            <a:off x="7848720" y="4648320"/>
            <a:ext cx="1171440" cy="20574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14"/>
          <a:stretch/>
        </p:blipFill>
        <p:spPr>
          <a:xfrm>
            <a:off x="47520" y="3809880"/>
            <a:ext cx="1171800" cy="2057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15"/>
          <a:stretch/>
        </p:blipFill>
        <p:spPr>
          <a:xfrm>
            <a:off x="228600" y="23623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16"/>
          <a:stretch/>
        </p:blipFill>
        <p:spPr>
          <a:xfrm>
            <a:off x="23623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17"/>
          <a:stretch/>
        </p:blipFill>
        <p:spPr>
          <a:xfrm>
            <a:off x="1905120" y="914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18"/>
          <a:stretch/>
        </p:blipFill>
        <p:spPr>
          <a:xfrm>
            <a:off x="821052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19"/>
          <a:stretch/>
        </p:blipFill>
        <p:spPr>
          <a:xfrm>
            <a:off x="4876920" y="297180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 rot="4723800">
            <a:off x="3363840" y="377136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0430400">
            <a:off x="1904760" y="9140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52:51Z</dcterms:created>
  <dc:creator>Gabi Sandru</dc:creator>
  <dc:description/>
  <dc:language>en-US</dc:language>
  <cp:lastModifiedBy>Gabi Sandru</cp:lastModifiedBy>
  <dcterms:modified xsi:type="dcterms:W3CDTF">2009-11-22T16:56:52Z</dcterms:modified>
  <cp:revision>2</cp:revision>
  <dc:subject/>
  <dc:title>Slide 1</dc:title>
</cp:coreProperties>
</file>